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E125A-9776-49DD-BEFA-5D01B991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2865-329B-4D12-8B5E-E216127BF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7CEBA-8B46-44F8-892C-5C4CE3B73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BF9A2-85A7-473D-B661-DA1B17D0E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9362D-C33B-43EB-AEA7-16F032261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DE2A-DA52-441F-9BBB-A50D48380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42BE-B2E4-4542-9C13-9A301DBA7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361A-9F75-43DE-B987-9F4654C08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B7C0D-6ED8-4072-AB28-A57860221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8B85C-9600-432B-8912-773E580BC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2105-9E0E-478F-8D68-4F65CFB7C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D2D6-9FCA-494D-B6AD-2F3B9F70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FF45F-327B-453E-94B1-0B018922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6088E-DDAC-4D77-AAE6-B4797E379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377BA-9F60-4ADC-A6B5-19EFC8C3B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55482-2C2E-4094-99D1-9047A44E4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38BA4-7624-4314-8210-091B882D3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D2056-39D2-4B1F-B2D5-79F29930D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B3A6-B114-4885-8CC6-4B4E2B3BA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BEFC-4DA8-4064-A458-1635E8E20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5491-8C9F-487C-90CD-B89EDA44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63F8-B6B0-45DF-AA57-02CAC711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8130-4448-49FD-B144-006A0C04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5968-EADD-474A-BC18-CF8E193BF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26B9-F265-493D-A3BD-13ABF32FE1EC}"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4B34-9B31-49EB-A72D-6BCF23E80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2" descr=""/>
          <p:cNvPicPr/>
          <p:nvPr/>
        </p:nvPicPr>
        <p:blipFill>
          <a:blip r:embed="rId2"/>
          <a:stretch/>
        </p:blipFill>
        <p:spPr>
          <a:xfrm>
            <a:off x="685800" y="609480"/>
            <a:ext cx="914400" cy="1295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000F-58F9-4E2C-9B62-49D963650DE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DF29-B689-4382-B42C-D19F749C8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BF2" descr=""/>
          <p:cNvPicPr/>
          <p:nvPr/>
        </p:nvPicPr>
        <p:blipFill>
          <a:blip r:embed="rId2"/>
          <a:stretch/>
        </p:blipFill>
        <p:spPr>
          <a:xfrm>
            <a:off x="685800" y="609480"/>
            <a:ext cx="914400" cy="1295640"/>
          </a:xfrm>
          <a:prstGeom prst="rect">
            <a:avLst/>
          </a:prstGeom>
          <a:ln w="0">
            <a:noFill/>
          </a:ln>
        </p:spPr>
      </p:pic>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ird Outline Level</a:t>
            </a:r>
            <a:endParaRPr b="0" lang="en-US" sz="2400" spc="-1" strike="noStrike">
              <a:solidFill>
                <a:srgbClr val="333399"/>
              </a:solidFill>
              <a:latin typeface="Times New Roman"/>
            </a:endParaRPr>
          </a:p>
          <a:p>
            <a:pPr lvl="3" marL="1371600" algn="ctr">
              <a:spcBef>
                <a:spcPts val="499"/>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urth Outline Level</a:t>
            </a:r>
            <a:endParaRPr b="0" lang="en-US" sz="2000" spc="-1" strike="noStrike">
              <a:solidFill>
                <a:srgbClr val="ff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 i aksjon</a:t>
            </a:r>
            <a:endParaRPr b="0" lang="en-US" sz="4400" spc="-1" strike="noStrike">
              <a:solidFill>
                <a:srgbClr val="6633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m arbeidsoppgavene ved ”retting” av feil i fremgangsmåten </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imes New Roman"/>
              </a:rPr>
              <a:t>§ 81 C6 og § 81 C7</a:t>
            </a: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Per Nordland</a:t>
            </a:r>
          </a:p>
        </p:txBody>
      </p:sp>
      <p:sp>
        <p:nvSpPr>
          <p:cNvPr id="5" name="PlaceHolder 4"/>
          <p:cNvSpPr>
            <a:spLocks noGrp="1"/>
          </p:cNvSpPr>
          <p:nvPr>
            <p:ph type="sldNum" idx="6"/>
          </p:nvPr>
        </p:nvSpPr>
        <p:spPr/>
        <p:txBody>
          <a:bodyPr/>
          <a:p>
            <a:fld id="{A8FFB8FA-6D11-4250-BE8B-E547B153843F}" type="slidenum">
              <a:t>1</a:t>
            </a:fld>
          </a:p>
        </p:txBody>
      </p:sp>
      <p:sp>
        <p:nvSpPr>
          <p:cNvPr id="6" name="PlaceHolder 5"/>
          <p:cNvSpPr>
            <a:spLocks noGrp="1"/>
          </p:cNvSpPr>
          <p:nvPr>
            <p:ph type="dt" idx="4"/>
          </p:nvPr>
        </p:nvSpPr>
        <p:spPr/>
        <p:txBody>
          <a:bodyPr/>
          <a:p>
            <a:fld id="{756AD367-400A-4D47-9DC4-F1D1490B9D67}" type="datetime1">
              <a:rPr lang="en-US"/>
              <a:t>07/31/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L som feilretter</a:t>
            </a:r>
            <a:endParaRPr b="0" lang="en-US" sz="4400" spc="-1" strike="noStrike">
              <a:solidFill>
                <a:srgbClr val="66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korrigere feil eller uregelmessigheter som spillerne på en eller annen måte blir klar over, innen utgangen av den korrigeringsfrist som er fastsatt i samsvar med §79C**.</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være varsom med på eget initiativ å gjøre spillerne oppmerksom på feil særlig når det er knyttet frister som f.eks neste spill eller rundens slutt til vurderingen av dem.</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bør gripe inn dersom han ser at noen forsøker å snike seg til poeng med brudd på etiske regler, regler for tillatte systemer og lignende</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E4383A9-E18C-430C-970C-4453485157AC}" type="slidenum">
              <a:t>10</a:t>
            </a:fld>
          </a:p>
        </p:txBody>
      </p:sp>
      <p:sp>
        <p:nvSpPr>
          <p:cNvPr id="6" name="PlaceHolder 5"/>
          <p:cNvSpPr>
            <a:spLocks noGrp="1"/>
          </p:cNvSpPr>
          <p:nvPr>
            <p:ph type="dt" idx="1"/>
          </p:nvPr>
        </p:nvSpPr>
        <p:spPr/>
        <p:txBody>
          <a:bodyPr/>
          <a:p>
            <a:fld id="{919E7064-7D47-4D79-BA49-5A1088498705}"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Prosedyren ved feilretting</a:t>
            </a:r>
            <a:endParaRPr b="0" lang="en-US" sz="4400" spc="-1" strike="noStrike">
              <a:solidFill>
                <a:srgbClr val="6633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e fakta</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ørg for at alle spillerne ved bordet bidrar til belysning av sake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kluder faktaundersøkelsen</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foreligger et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kan være kilde til urettmessig informasjon fra makker en kilde som senere kan føre til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er ikke et regelbrudd</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4058E32-7A93-452D-B264-1F596953552F}" type="slidenum">
              <a:t>11</a:t>
            </a:fld>
          </a:p>
        </p:txBody>
      </p:sp>
      <p:sp>
        <p:nvSpPr>
          <p:cNvPr id="6" name="PlaceHolder 5"/>
          <p:cNvSpPr>
            <a:spLocks noGrp="1"/>
          </p:cNvSpPr>
          <p:nvPr>
            <p:ph type="dt" idx="1"/>
          </p:nvPr>
        </p:nvSpPr>
        <p:spPr/>
        <p:txBody>
          <a:bodyPr/>
          <a:p>
            <a:fld id="{97FF54A3-CC6A-4FA5-98EC-5FC84932E29F}"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I</a:t>
            </a:r>
            <a:endParaRPr b="0" lang="en-US" sz="4400" spc="-1" strike="noStrike">
              <a:solidFill>
                <a:srgbClr val="66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tter tilkalling</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 som tilkaller legger fram saken slik han ser d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 overtar som ordstyrer ved bordet og sørger for at alle får forklart seg.</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ta med seg spillere bort fra bordet for forklaring</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også ta med en spiller bort fra bordet slik makkeren kan forklare avtaler som er glemt</a:t>
            </a:r>
            <a:endParaRPr b="0" lang="en-US" sz="2400" spc="-1" strike="noStrike">
              <a:solidFill>
                <a:srgbClr val="333399"/>
              </a:solidFill>
              <a:latin typeface="Times New Roman"/>
            </a:endParaRPr>
          </a:p>
        </p:txBody>
      </p:sp>
      <p:sp>
        <p:nvSpPr>
          <p:cNvPr id="110" name="PlaceHolder 3"/>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4A3C234E-565F-45D3-820F-BEE462892577}" type="slidenum">
              <a:t>12</a:t>
            </a:fld>
          </a:p>
        </p:txBody>
      </p:sp>
      <p:sp>
        <p:nvSpPr>
          <p:cNvPr id="7" name="PlaceHolder 6"/>
          <p:cNvSpPr>
            <a:spLocks noGrp="1"/>
          </p:cNvSpPr>
          <p:nvPr>
            <p:ph type="dt" idx="1"/>
          </p:nvPr>
        </p:nvSpPr>
        <p:spPr/>
        <p:txBody>
          <a:bodyPr/>
          <a:p>
            <a:fld id="{310F7D32-B66C-4438-9366-B612E1EEF0BA}"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lytskjema II</a:t>
            </a:r>
            <a:endParaRPr b="0" lang="en-US" sz="4400" spc="-1" strike="noStrike">
              <a:solidFill>
                <a:srgbClr val="66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Når alle fakta er samlet inn.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estemme hvordan regelbruddet behandles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reves det umiddelbar dom for at spillet skal fortsett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straffen bestemt i loven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an spillet ved bordet kan fortsette mens TL finner ut hva dommen skal vær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det en situasjon der U(urettmessig) I(informasjon) kan være gitt?</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4C03060-E1D9-4ECE-A8A0-77CDE4585948}" type="slidenum">
              <a:t>13</a:t>
            </a:fld>
          </a:p>
        </p:txBody>
      </p:sp>
      <p:sp>
        <p:nvSpPr>
          <p:cNvPr id="6" name="PlaceHolder 5"/>
          <p:cNvSpPr>
            <a:spLocks noGrp="1"/>
          </p:cNvSpPr>
          <p:nvPr>
            <p:ph type="dt" idx="1"/>
          </p:nvPr>
        </p:nvSpPr>
        <p:spPr/>
        <p:txBody>
          <a:bodyPr/>
          <a:p>
            <a:fld id="{31993E54-A3A7-44AB-9DF6-DB24C78B1A59}"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a:t>
            </a:r>
            <a:endParaRPr b="0" lang="en-US" sz="4400" spc="-1" strike="noStrike">
              <a:solidFill>
                <a:srgbClr val="66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l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lding utenfor tu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ilstrekkelig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nske om endring av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remvist kor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spill fra feil hån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 i uti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istet k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7C7561D-1953-4A4D-9DD6-E97FB431B905}" type="slidenum">
              <a:t>14</a:t>
            </a:fld>
          </a:p>
        </p:txBody>
      </p:sp>
      <p:sp>
        <p:nvSpPr>
          <p:cNvPr id="6" name="PlaceHolder 5"/>
          <p:cNvSpPr>
            <a:spLocks noGrp="1"/>
          </p:cNvSpPr>
          <p:nvPr>
            <p:ph type="dt" idx="1"/>
          </p:nvPr>
        </p:nvSpPr>
        <p:spPr/>
        <p:txBody>
          <a:bodyPr/>
          <a:p>
            <a:fld id="{1982CB78-F1B7-4B5F-916B-341B6E41B131}"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I</a:t>
            </a:r>
            <a:endParaRPr b="0" lang="en-US" sz="4400" spc="-1" strike="noStrike">
              <a:solidFill>
                <a:srgbClr val="6633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 fakta</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va har skjedd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 ikke-feilende side alle sine rettigheter i behold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meldt eller spilt</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fått beskjed av ”egen” tilskuer </a:t>
            </a:r>
            <a:endParaRPr b="0" lang="en-US" sz="24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fram paragrafen og referer ”domme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F0F5C07-7B8E-497A-BD10-FAE462E054B3}" type="slidenum">
              <a:t>15</a:t>
            </a:fld>
          </a:p>
        </p:txBody>
      </p:sp>
      <p:sp>
        <p:nvSpPr>
          <p:cNvPr id="6" name="PlaceHolder 5"/>
          <p:cNvSpPr>
            <a:spLocks noGrp="1"/>
          </p:cNvSpPr>
          <p:nvPr>
            <p:ph type="dt" idx="1"/>
          </p:nvPr>
        </p:nvSpPr>
        <p:spPr/>
        <p:txBody>
          <a:bodyPr/>
          <a:p>
            <a:fld id="{98C4251B-AE93-44DA-8264-DBB25F5062BD}"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 III</a:t>
            </a:r>
            <a:endParaRPr b="0" lang="en-US" sz="4400" spc="-1" strike="noStrike">
              <a:solidFill>
                <a:srgbClr val="6633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tillegg m.v skal med når det avgis en dom (de er nesten alltid fullstendig nevnt i den paragrafen som brukes</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3 om pass som skader dersom ”kunne ha viss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6 om utspillsstraff</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6 C om informasjon fra melding eller spill som blir trukket tilbak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366AE6D-5D81-4D68-893A-0178F99823D4}" type="slidenum">
              <a:t>16</a:t>
            </a:fld>
          </a:p>
        </p:txBody>
      </p:sp>
      <p:sp>
        <p:nvSpPr>
          <p:cNvPr id="6" name="PlaceHolder 5"/>
          <p:cNvSpPr>
            <a:spLocks noGrp="1"/>
          </p:cNvSpPr>
          <p:nvPr>
            <p:ph type="dt" idx="1"/>
          </p:nvPr>
        </p:nvSpPr>
        <p:spPr/>
        <p:txBody>
          <a:bodyPr/>
          <a:p>
            <a:fld id="{FDA8D8AB-C51C-423B-BBE5-65684447B2C7}"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traksdom IV</a:t>
            </a:r>
            <a:endParaRPr b="0" lang="en-US" sz="4400" spc="-1" strike="noStrike">
              <a:solidFill>
                <a:srgbClr val="6633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Alle alternativer skal forklares slik at TL er sikker på at spilleren har fått med seg alt</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er som skal velge mellom alternativer kan ikke diskutere med makker.</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Makker kan ved å ”blande seg” fjerne valgmuligheten</a:t>
            </a:r>
            <a:endParaRPr b="0" lang="en-US" sz="24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Vær oppmerksom på at det kan være så mye UI i omløp at et spill ikke kan spilles på ”vanlig”må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67D59EF-BD3F-497B-A0F6-76754557D67E}" type="slidenum">
              <a:t>17</a:t>
            </a:fld>
          </a:p>
        </p:txBody>
      </p:sp>
      <p:sp>
        <p:nvSpPr>
          <p:cNvPr id="6" name="PlaceHolder 5"/>
          <p:cNvSpPr>
            <a:spLocks noGrp="1"/>
          </p:cNvSpPr>
          <p:nvPr>
            <p:ph type="dt" idx="1"/>
          </p:nvPr>
        </p:nvSpPr>
        <p:spPr/>
        <p:txBody>
          <a:bodyPr/>
          <a:p>
            <a:fld id="{5F695596-787F-4CE1-AEEB-A63BDC1B611D}"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a:t>
            </a:r>
            <a:endParaRPr b="0" lang="en-US" sz="4400" spc="-1" strike="noStrike">
              <a:solidFill>
                <a:srgbClr val="6633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Revoke </a:t>
            </a:r>
            <a:endParaRPr b="0" lang="en-US" sz="2400" spc="-1" strike="noStrike">
              <a:solidFill>
                <a:srgbClr val="333399"/>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t når feilende side har spilt til neste stikk</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es og rettes når det er ulovlige spørsmål</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ulig reaksjon </a:t>
            </a:r>
            <a:endParaRPr b="0" lang="en-US" sz="2000" spc="-1" strike="noStrike">
              <a:solidFill>
                <a:srgbClr val="000000"/>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Ingen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Ett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To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Gjenopprettelse av status</a:t>
            </a:r>
            <a:endParaRPr b="0" lang="en-US" sz="1800" spc="-1" strike="noStrike">
              <a:solidFill>
                <a:srgbClr val="333399"/>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 Revoke som rettes etter ulovlig spørsmål telles stikk som skal overføres som om kortet som trekkes tilbake er spilt i aktuelt stikk. (det betyr at revoken lett blir 2 stikks)</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ngen stikk som er vunnet før revokestikket kan bli overført etter revoken</a:t>
            </a:r>
            <a:endParaRPr b="0" lang="en-US" sz="24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4AAAD3FE-35E9-4DAD-95C6-6AAD617CDF58}" type="slidenum">
              <a:t>18</a:t>
            </a:fld>
          </a:p>
        </p:txBody>
      </p:sp>
      <p:sp>
        <p:nvSpPr>
          <p:cNvPr id="7" name="PlaceHolder 6"/>
          <p:cNvSpPr>
            <a:spLocks noGrp="1"/>
          </p:cNvSpPr>
          <p:nvPr>
            <p:ph type="dt" idx="1"/>
          </p:nvPr>
        </p:nvSpPr>
        <p:spPr/>
        <p:txBody>
          <a:bodyPr/>
          <a:p>
            <a:fld id="{527C5F33-A9B0-4BDF-8B94-BEDBD0D42F1B}"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 2</a:t>
            </a:r>
            <a:endParaRPr b="0" lang="en-US" sz="4400" spc="-1" strike="noStrike">
              <a:solidFill>
                <a:srgbClr val="6633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glene for overføring skal følg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vokestraff som ikke gir fullgod erstatning og revoke som ikke straffes.</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64 C gir TL ansvar for et rettferdig resultat innen protestfristen i turneringen  </a:t>
            </a:r>
            <a:endParaRPr b="0" lang="en-US" sz="24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TL skal dersom han tilkalles før spillet er slutt gjøre oppmerksom på at det er OK å forsøke å unngå å vinne et stikk med et kort som lovlig kunne vært brukt i revokestikket</a:t>
            </a:r>
            <a:endParaRPr b="0" lang="en-US" sz="28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983DC147-FD5F-41E6-95B3-77342E658BB3}" type="slidenum">
              <a:t>19</a:t>
            </a:fld>
          </a:p>
        </p:txBody>
      </p:sp>
      <p:sp>
        <p:nvSpPr>
          <p:cNvPr id="7" name="PlaceHolder 6"/>
          <p:cNvSpPr>
            <a:spLocks noGrp="1"/>
          </p:cNvSpPr>
          <p:nvPr>
            <p:ph type="dt" idx="1"/>
          </p:nvPr>
        </p:nvSpPr>
        <p:spPr/>
        <p:txBody>
          <a:bodyPr/>
          <a:p>
            <a:fld id="{6FC99027-791B-4C24-A5FB-A1D7EFB8B1CE}"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1</a:t>
            </a:r>
            <a:endParaRPr b="0" lang="en-US" sz="4400" spc="-1" strike="noStrike">
              <a:solidFill>
                <a:srgbClr val="66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 </a:t>
            </a:r>
            <a:r>
              <a:rPr b="0" lang="en-GB" sz="2800" spc="-1" strike="noStrike">
                <a:solidFill>
                  <a:srgbClr val="000000"/>
                </a:solidFill>
                <a:latin typeface="Times New Roman"/>
                <a:ea typeface="Times New Roman"/>
              </a:rPr>
              <a:t>Directing should be done using a strict procedural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pproach, supporting the TD in his work, helping him to make the right decisions and bringing order in a situation which is not always easy to handle.</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is is a description of the things to be done in nine steps,with emphasis on one or another depending on the kind of irregularity to solve.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A5868C2-8AA5-403B-905A-A1DE5ACCACD7}" type="slidenum">
              <a:t>2</a:t>
            </a:fld>
          </a:p>
        </p:txBody>
      </p:sp>
      <p:sp>
        <p:nvSpPr>
          <p:cNvPr id="6" name="PlaceHolder 5"/>
          <p:cNvSpPr>
            <a:spLocks noGrp="1"/>
          </p:cNvSpPr>
          <p:nvPr>
            <p:ph type="dt" idx="1"/>
          </p:nvPr>
        </p:nvSpPr>
        <p:spPr/>
        <p:txBody>
          <a:bodyPr/>
          <a:p>
            <a:fld id="{E3FCCE0B-EE34-4BF9-A589-5E3F3FCD33C7}"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Dom etter at spillet slutt</a:t>
            </a:r>
            <a:endParaRPr b="0" lang="en-US" sz="4400" spc="-1" strike="noStrike">
              <a:solidFill>
                <a:srgbClr val="6633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I alle situasjoner der det er tilkalling pga tempoendringer, eller annen reaksjon som kan medføre at U(rettmessig) I(nformasjon) kan være gitt skal TL</a:t>
            </a:r>
            <a:endParaRPr b="0" lang="en-US" sz="2800" spc="-1" strike="noStrike">
              <a:solidFill>
                <a:srgbClr val="333399"/>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inne ut om UI kan være gitt og forlange at spillet fortsetter. </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Ikke gjøre noe – som f.eks å se på kort - det kan virke slik at TL selv blir kilde for urettmessig informasjon.</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vgjøre etter spillet og etter grundig overveielse om det er et regelbrudd, om det har ført til skade og avgi sin dom etter reglene i §1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310F377-F200-45CE-8DAE-E71039824C8F}" type="slidenum">
              <a:t>20</a:t>
            </a:fld>
          </a:p>
        </p:txBody>
      </p:sp>
      <p:sp>
        <p:nvSpPr>
          <p:cNvPr id="6" name="PlaceHolder 5"/>
          <p:cNvSpPr>
            <a:spLocks noGrp="1"/>
          </p:cNvSpPr>
          <p:nvPr>
            <p:ph type="dt" idx="1"/>
          </p:nvPr>
        </p:nvSpPr>
        <p:spPr/>
        <p:txBody>
          <a:bodyPr/>
          <a:p>
            <a:fld id="{3D4047F7-BFAD-4AAB-97E8-E41ADD7616B0}"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utilstrekkelig melding i rett tur</a:t>
            </a:r>
            <a:endParaRPr b="0" lang="en-US" sz="4400" spc="-1" strike="noStrike">
              <a:solidFill>
                <a:srgbClr val="663300"/>
              </a:solidFill>
              <a:latin typeface="Times New Roman"/>
            </a:endParaRPr>
          </a:p>
        </p:txBody>
      </p:sp>
      <p:graphicFrame>
        <p:nvGraphicFramePr>
          <p:cNvPr id="130" name=""/>
          <p:cNvGraphicFramePr/>
          <p:nvPr/>
        </p:nvGraphicFramePr>
        <p:xfrm>
          <a:off x="685800" y="1981080"/>
          <a:ext cx="7772400" cy="4525920"/>
        </p:xfrm>
        <a:graphic>
          <a:graphicData uri="http://schemas.openxmlformats.org/drawingml/2006/table">
            <a:tbl>
              <a:tblPr/>
              <a:tblGrid>
                <a:gridCol w="1600200"/>
                <a:gridCol w="609480"/>
                <a:gridCol w="1676520"/>
                <a:gridCol w="533520"/>
                <a:gridCol w="3352680"/>
              </a:tblGrid>
              <a:tr h="68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tilstrekkelig 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godkjenner meldi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ngen straf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pilleren forsøker å rette til laveste tilstrekkelige melding i fargen før VM har fått sagt noe se § 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velger i praksis hvilken  melding han godkjen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åde budet og laveste tilstrekkelig bud i fargen er naturli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veste tilstrekkelige bud ingen straff husk § 27B1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en budet eller det lavest tilstrekkelige bud er konvensjonel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han skal melde (§23 ) og § 16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tting til andre meldinger en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søker å rette den utilstrekkelige meldingen til Dobler eller Redob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Meldingen anulleres og 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261AE335-3001-487A-851E-B80A0279BBEE}" type="slidenum">
              <a:t>21</a:t>
            </a:fld>
          </a:p>
        </p:txBody>
      </p:sp>
      <p:sp>
        <p:nvSpPr>
          <p:cNvPr id="5" name="PlaceHolder 4"/>
          <p:cNvSpPr>
            <a:spLocks noGrp="1"/>
          </p:cNvSpPr>
          <p:nvPr>
            <p:ph type="dt" idx="1"/>
          </p:nvPr>
        </p:nvSpPr>
        <p:spPr/>
        <p:txBody>
          <a:bodyPr/>
          <a:p>
            <a:fld id="{DB12AAD9-848D-42F3-BCDD-7C60C0C1236C}"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meldingen avgitt</a:t>
            </a:r>
            <a:endParaRPr b="0" lang="en-US" sz="4400" spc="-1" strike="noStrike">
              <a:solidFill>
                <a:srgbClr val="663300"/>
              </a:solidFill>
              <a:latin typeface="Times New Roman"/>
            </a:endParaRPr>
          </a:p>
        </p:txBody>
      </p:sp>
      <p:graphicFrame>
        <p:nvGraphicFramePr>
          <p:cNvPr id="132" name=""/>
          <p:cNvGraphicFramePr/>
          <p:nvPr/>
        </p:nvGraphicFramePr>
        <p:xfrm>
          <a:off x="685800" y="1981080"/>
          <a:ext cx="7772400" cy="4073760"/>
        </p:xfrm>
        <a:graphic>
          <a:graphicData uri="http://schemas.openxmlformats.org/drawingml/2006/table">
            <a:tbl>
              <a:tblPr/>
              <a:tblGrid>
                <a:gridCol w="3886200"/>
                <a:gridCol w="609480"/>
                <a:gridCol w="3276720"/>
              </a:tblGrid>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A tillater endring av melding som åpenbart er angitt av vanvare helt til makker har meld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gen straff og det er ingen UI fra en (tull)melding avgitt i vanv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lding med meldebokser: Avgitt når det er tatt tak i meldekortene og de er løftet og nesten ut av boks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r kan f.eks lovlig bli vekket av at VM spør om betydning av den meldingen som ble avgitt i vanva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B. § 25 A om vanvare (Dette er en regel som lett skaper brå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dring fordi man har endret mening se 25 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1 er grei husk §16C og §2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2 ”Den sist avgitte melding blir ikke aksept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kke tilby regelverket i §25 B2 når spilleren ikke har avgitt melding nr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46256CE-A4FA-407F-9DEE-329205C86B8F}" type="slidenum">
              <a:t>22</a:t>
            </a:fld>
          </a:p>
        </p:txBody>
      </p:sp>
      <p:sp>
        <p:nvSpPr>
          <p:cNvPr id="5" name="PlaceHolder 4"/>
          <p:cNvSpPr>
            <a:spLocks noGrp="1"/>
          </p:cNvSpPr>
          <p:nvPr>
            <p:ph type="dt" idx="1"/>
          </p:nvPr>
        </p:nvSpPr>
        <p:spPr/>
        <p:txBody>
          <a:bodyPr/>
          <a:p>
            <a:fld id="{358DB5A0-E77E-4A05-8F15-7DC7C3C1F3D4}"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et kort spilt</a:t>
            </a:r>
            <a:endParaRPr b="0" lang="en-US" sz="4400" spc="-1" strike="noStrike">
              <a:solidFill>
                <a:srgbClr val="663300"/>
              </a:solidFill>
              <a:latin typeface="Times New Roman"/>
            </a:endParaRPr>
          </a:p>
        </p:txBody>
      </p:sp>
      <p:graphicFrame>
        <p:nvGraphicFramePr>
          <p:cNvPr id="134" name=""/>
          <p:cNvGraphicFramePr/>
          <p:nvPr/>
        </p:nvGraphicFramePr>
        <p:xfrm>
          <a:off x="685800" y="1981080"/>
          <a:ext cx="7772400" cy="4054680"/>
        </p:xfrm>
        <a:graphic>
          <a:graphicData uri="http://schemas.openxmlformats.org/drawingml/2006/table">
            <a:tbl>
              <a:tblPr/>
              <a:tblGrid>
                <a:gridCol w="3886200"/>
                <a:gridCol w="457200"/>
                <a:gridCol w="3429000"/>
              </a:tblGrid>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 motspillers kort må spilles når det har vært MULIG for hans makker å se kortet                       (for eksempel når både spillefører og blindemann har sett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t må endres dersom det er et ulovlig spill §44 og § 62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an også endres 45C4B, men da blir det et (stort?) straffek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s kort er spilt når det er holdt i spilt posisjon og berører eller nesten berører bor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endrer et ulovlig spill og et spill av vanvare uten str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kort er spilt når spillefører ”berører det med overlegg” eller nevner d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spill gjelder ik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blindemann og hans VM likevel spiller se § 45 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usk at spillefører nå har UI etter §16C (logiske alternativ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15B255CE-C234-4896-A89D-E12A84343B7E}" type="slidenum">
              <a:t>23</a:t>
            </a:fld>
          </a:p>
        </p:txBody>
      </p:sp>
      <p:sp>
        <p:nvSpPr>
          <p:cNvPr id="5" name="PlaceHolder 4"/>
          <p:cNvSpPr>
            <a:spLocks noGrp="1"/>
          </p:cNvSpPr>
          <p:nvPr>
            <p:ph type="dt" idx="1"/>
          </p:nvPr>
        </p:nvSpPr>
        <p:spPr/>
        <p:txBody>
          <a:bodyPr/>
          <a:p>
            <a:fld id="{E79DB6E2-AE4A-4EA0-A2F8-353FE7D32E1F}"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straffekort</a:t>
            </a:r>
            <a:endParaRPr b="0" lang="en-US" sz="4400" spc="-1" strike="noStrike">
              <a:solidFill>
                <a:srgbClr val="663300"/>
              </a:solidFill>
              <a:latin typeface="Times New Roman"/>
            </a:endParaRPr>
          </a:p>
        </p:txBody>
      </p:sp>
      <p:graphicFrame>
        <p:nvGraphicFramePr>
          <p:cNvPr id="136" name=""/>
          <p:cNvGraphicFramePr/>
          <p:nvPr/>
        </p:nvGraphicFramePr>
        <p:xfrm>
          <a:off x="685800" y="1981080"/>
          <a:ext cx="7772400" cy="3851280"/>
        </p:xfrm>
        <a:graphic>
          <a:graphicData uri="http://schemas.openxmlformats.org/drawingml/2006/table">
            <a:tbl>
              <a:tblPr/>
              <a:tblGrid>
                <a:gridCol w="4495680"/>
                <a:gridCol w="457200"/>
                <a:gridCol w="28195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vist under meldingsforløpet er straffekort dersom spillefører krever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 § 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som er vist, men ikke spilt er ikke automatisk straffekor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L treffer annen avgjørels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t lite straffekort er et kort under 10 som er fremvist av vanv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o eller flere” gir alltid stor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spilleren kan ikke spille et annet kort under ti i farge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rt straffekort er honnør og alle kort som er for tidlig spi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kan kreve og nekte fargen fra makk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får ikk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CFB5A1BF-1622-417F-B46B-E1D36CC19E02}" type="slidenum">
              <a:t>24</a:t>
            </a:fld>
          </a:p>
        </p:txBody>
      </p:sp>
      <p:sp>
        <p:nvSpPr>
          <p:cNvPr id="5" name="PlaceHolder 4"/>
          <p:cNvSpPr>
            <a:spLocks noGrp="1"/>
          </p:cNvSpPr>
          <p:nvPr>
            <p:ph type="dt" idx="1"/>
          </p:nvPr>
        </p:nvSpPr>
        <p:spPr/>
        <p:txBody>
          <a:bodyPr/>
          <a:p>
            <a:fld id="{14ECB339-1E0B-4A29-B0FB-9B5C24EFAC13}"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rekkefølgen av spill m.v.</a:t>
            </a:r>
            <a:endParaRPr b="0" lang="en-US" sz="4400" spc="-1" strike="noStrike">
              <a:solidFill>
                <a:srgbClr val="663300"/>
              </a:solidFill>
              <a:latin typeface="Times New Roman"/>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4495680"/>
                <a:gridCol w="685800"/>
                <a:gridCol w="259092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år et spill i rett tur og et spill utenfor tur skjer samtidig s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8 sier at spillet i rett tur skjer førs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et ulovlig spill fra en motstander følges av et spill i rett t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3 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8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1BB9C3D4-D7CC-403A-8FEF-F04AF682C3EE}" type="slidenum">
              <a:t>25</a:t>
            </a:fld>
          </a:p>
        </p:txBody>
      </p:sp>
      <p:sp>
        <p:nvSpPr>
          <p:cNvPr id="5" name="PlaceHolder 4"/>
          <p:cNvSpPr>
            <a:spLocks noGrp="1"/>
          </p:cNvSpPr>
          <p:nvPr>
            <p:ph type="dt" idx="1"/>
          </p:nvPr>
        </p:nvSpPr>
        <p:spPr/>
        <p:txBody>
          <a:bodyPr/>
          <a:p>
            <a:fld id="{66EF23A7-29BD-4111-B175-B5C48B9751CD}"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17 - § 68 er sterkt tekniske paragrafer. </a:t>
            </a:r>
            <a:endParaRPr b="0" lang="en-US" sz="2800" spc="-1" strike="noStrike">
              <a:solidFill>
                <a:srgbClr val="333399"/>
              </a:solidFill>
              <a:latin typeface="Times New Roman"/>
            </a:endParaRPr>
          </a:p>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 aller fleste feil som dere møter i spillet av kortene er beskrevet. </a:t>
            </a:r>
            <a:endParaRPr b="0" lang="en-US" sz="2800" spc="-1" strike="noStrike">
              <a:solidFill>
                <a:srgbClr val="333399"/>
              </a:solidFill>
              <a:latin typeface="Times New Roman"/>
            </a:endParaRPr>
          </a:p>
          <a:p>
            <a:pPr lvl="1" marL="743040" indent="-28584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er spesifikk behandling av alle beskrevne fe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eksempel fra § 67. En spiller har for mange kort på hånden og for få kort på bordet blant de spilte korten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67 B , hvilket stikk. Rettes med §67 B1 eller §67 B2 </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C7636F1-269A-4451-B61B-4914390AA196}" type="slidenum">
              <a:t>26</a:t>
            </a:fld>
          </a:p>
        </p:txBody>
      </p:sp>
      <p:sp>
        <p:nvSpPr>
          <p:cNvPr id="6" name="PlaceHolder 5"/>
          <p:cNvSpPr>
            <a:spLocks noGrp="1"/>
          </p:cNvSpPr>
          <p:nvPr>
            <p:ph type="dt" idx="1"/>
          </p:nvPr>
        </p:nvSpPr>
        <p:spPr/>
        <p:txBody>
          <a:bodyPr/>
          <a:p>
            <a:fld id="{C0E6D948-341E-4B8D-A27B-52F1617D17A6}"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ksempel fra § 27. En spiller som har bløffet avgir en utilstrekkelig melding retter til et eller annet og får omsider stoppet kjeften på makker</a:t>
            </a:r>
            <a:endParaRPr b="0" lang="en-US" sz="24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23 kunne ha viss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72B1 retten til å fastsette et justert resulta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12C2 evt § 12C3 for å finne en passende straff</a:t>
            </a:r>
            <a:br>
              <a:rPr sz="1800"/>
            </a:br>
            <a:r>
              <a:rPr b="0" lang="nb-NO" sz="1800" spc="-1" strike="noStrike">
                <a:solidFill>
                  <a:srgbClr val="333399"/>
                </a:solidFill>
                <a:latin typeface="Times New Roman"/>
              </a:rPr>
              <a:t> </a:t>
            </a:r>
            <a:endParaRPr b="0" lang="en-US" sz="1800" spc="-1" strike="noStrike">
              <a:solidFill>
                <a:srgbClr val="333399"/>
              </a:solidFill>
              <a:latin typeface="Times New Roman"/>
            </a:endParaRPr>
          </a:p>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 12 B tillater ikke TL å lempe en urimelig streng straff som er resultat av det som er fastsatt i paragrafene</a:t>
            </a: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0FA6B08-D3F1-4B66-8360-8660D663E825}" type="slidenum">
              <a:t>27</a:t>
            </a:fld>
          </a:p>
        </p:txBody>
      </p:sp>
      <p:sp>
        <p:nvSpPr>
          <p:cNvPr id="6" name="PlaceHolder 5"/>
          <p:cNvSpPr>
            <a:spLocks noGrp="1"/>
          </p:cNvSpPr>
          <p:nvPr>
            <p:ph type="dt" idx="1"/>
          </p:nvPr>
        </p:nvSpPr>
        <p:spPr/>
        <p:txBody>
          <a:bodyPr/>
          <a:p>
            <a:fld id="{6122223B-6F23-4C35-A610-834EC9449C47}"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1</a:t>
            </a:r>
            <a:endParaRPr b="0" lang="en-US" sz="4400" spc="-1" strike="noStrike">
              <a:solidFill>
                <a:srgbClr val="6633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år det skjer et krav om et eller flere av de gjenstående stikk med avståelse av resten så opphører spillet med et unntak.</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pillers forsøk på avståelse av stikk som stoppes av makker § 68B siste setning</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krav og avståelser bør følges av en spilleplan</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ålet med denne er å unngå at spillere uten oversikt urettmessig får stik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864AE55-F8FA-49BD-9DC4-996D3EBBD6D9}" type="slidenum">
              <a:t>28</a:t>
            </a:fld>
          </a:p>
        </p:txBody>
      </p:sp>
      <p:sp>
        <p:nvSpPr>
          <p:cNvPr id="6" name="PlaceHolder 5"/>
          <p:cNvSpPr>
            <a:spLocks noGrp="1"/>
          </p:cNvSpPr>
          <p:nvPr>
            <p:ph type="dt" idx="1"/>
          </p:nvPr>
        </p:nvSpPr>
        <p:spPr/>
        <p:txBody>
          <a:bodyPr/>
          <a:p>
            <a:fld id="{8B43B276-3C3B-43FC-B6C9-3BFD1B3DB54D}"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2</a:t>
            </a:r>
            <a:endParaRPr b="0" lang="en-US" sz="4400" spc="-1" strike="noStrike">
              <a:solidFill>
                <a:srgbClr val="66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viktige frister h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llerne har begynt på neste spil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den er slutt</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også viktig å finne ut hvordan spillere finner ut at de vil protestere</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gelmessigheten påtales av en tilskuer § 11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ene om tilskuere i § 76. (innen den første endringsfris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5F27988-33B9-4AD4-99BF-23F636FAA3F7}" type="slidenum">
              <a:t>29</a:t>
            </a:fld>
          </a:p>
        </p:txBody>
      </p:sp>
      <p:sp>
        <p:nvSpPr>
          <p:cNvPr id="6" name="PlaceHolder 5"/>
          <p:cNvSpPr>
            <a:spLocks noGrp="1"/>
          </p:cNvSpPr>
          <p:nvPr>
            <p:ph type="dt" idx="1"/>
          </p:nvPr>
        </p:nvSpPr>
        <p:spPr/>
        <p:txBody>
          <a:bodyPr/>
          <a:p>
            <a:fld id="{40291626-0770-4F82-A20C-5F8FFFD95548}"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2</a:t>
            </a:r>
            <a:endParaRPr b="0" lang="en-US" sz="4400" spc="-1" strike="noStrike">
              <a:solidFill>
                <a:srgbClr val="6633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Times New Roman"/>
              </a:rPr>
              <a:t>The TD addresses the player who took the initiative to call for him. </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Quite often the ruling is initially confusing because more than one of the players starts telling what happened and others reac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dummy called for you, please check whether he took the initiative himself, since normally speaking he is not allowed to do so.</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ell the other side that you will ask their view as well.</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24B29B9-60A5-4EE4-96E3-7A32ACA29B1D}" type="slidenum">
              <a:t>3</a:t>
            </a:fld>
          </a:p>
        </p:txBody>
      </p:sp>
      <p:sp>
        <p:nvSpPr>
          <p:cNvPr id="6" name="PlaceHolder 5"/>
          <p:cNvSpPr>
            <a:spLocks noGrp="1"/>
          </p:cNvSpPr>
          <p:nvPr>
            <p:ph type="dt" idx="1"/>
          </p:nvPr>
        </p:nvSpPr>
        <p:spPr/>
        <p:txBody>
          <a:bodyPr/>
          <a:p>
            <a:fld id="{8A1677CA-AD64-4DDA-BEA7-D9BE84BE2A9F}"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3</a:t>
            </a:r>
            <a:endParaRPr b="0" lang="en-US" sz="4400" spc="-1" strike="noStrike">
              <a:solidFill>
                <a:srgbClr val="66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Generell regel </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nen fristen (rundeslutt – nytt spill i gang) så kan en godtagelse av krav trekkes tilbake og kravet undersøkes etter formodningen om en dårlig ”normal”  spillefør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tter denne fristen og fram til § 79 snues bevisbyrden på hodet og det er den avstående sides handlinger som vurderes etter begrepet dårlig ”normalt spil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666F3DE-D998-4F89-A545-D4A7C20A92D7}" type="slidenum">
              <a:t>30</a:t>
            </a:fld>
          </a:p>
        </p:txBody>
      </p:sp>
      <p:sp>
        <p:nvSpPr>
          <p:cNvPr id="6" name="PlaceHolder 5"/>
          <p:cNvSpPr>
            <a:spLocks noGrp="1"/>
          </p:cNvSpPr>
          <p:nvPr>
            <p:ph type="dt" idx="1"/>
          </p:nvPr>
        </p:nvSpPr>
        <p:spPr/>
        <p:txBody>
          <a:bodyPr/>
          <a:p>
            <a:fld id="{06A0AADB-3DE5-4DDB-A912-17DEDCED8362}"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1</a:t>
            </a:r>
            <a:endParaRPr b="0" lang="en-US" sz="4400" spc="-1" strike="noStrike">
              <a:solidFill>
                <a:srgbClr val="6633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gisk alternativ</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lternativ som minst 3 av 10 spillere på samme nivå ville velg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er klokt å forsøke å undersøke dette ved å finne ut hvilke meldinger som spillerne velger og om hvilke logiske alternativer de ser</a:t>
            </a:r>
            <a:endParaRPr b="0" lang="en-US" sz="20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beviselig er blitt foreslått” ”demonstrably have been suggested”</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må kunne forklare hvorfor alternativet er foreslått av U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tår ikke i loven at spilleren skal velge feil logisk alternativ</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E30B97CC-122E-481A-9576-2F20A275AE85}" type="slidenum">
              <a:t>31</a:t>
            </a:fld>
          </a:p>
        </p:txBody>
      </p:sp>
      <p:sp>
        <p:nvSpPr>
          <p:cNvPr id="7" name="PlaceHolder 6"/>
          <p:cNvSpPr>
            <a:spLocks noGrp="1"/>
          </p:cNvSpPr>
          <p:nvPr>
            <p:ph type="dt" idx="1"/>
          </p:nvPr>
        </p:nvSpPr>
        <p:spPr/>
        <p:txBody>
          <a:bodyPr/>
          <a:p>
            <a:fld id="{88A9CD54-4157-4433-9E7E-55F62CE4D89E}"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2</a:t>
            </a:r>
            <a:endParaRPr b="0" lang="en-US" sz="4400" spc="-1" strike="noStrike">
              <a:solidFill>
                <a:srgbClr val="6633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lovbrudd som har ført til skade”</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skal vurdere om det er lovbruddet ”bruk av UI til å velge et forbudt logisk alternativ” som har ført til skaden</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Ikke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ngen justering</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dumme feil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kke plaster på såret</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bruk av UI til å </a:t>
            </a:r>
            <a:br>
              <a:rPr sz="2000"/>
            </a:br>
            <a:r>
              <a:rPr b="0" lang="nb-NO" sz="2000" spc="-1" strike="noStrike">
                <a:solidFill>
                  <a:srgbClr val="333399"/>
                </a:solidFill>
                <a:latin typeface="Times New Roman"/>
              </a:rPr>
              <a:t>velge et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Justering etter §12C2,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12C3 </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n feilende side får ikke fordelen av et dårlig motspill eller f.eks motpartens revoke og tildeles verste score som kunne ha blitt resultatet med meldingen - eller uten meldingen</a:t>
            </a: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1F7B12C-EB2A-4A4A-933E-51BF15BF4E2B}" type="slidenum">
              <a:t>32</a:t>
            </a:fld>
          </a:p>
        </p:txBody>
      </p:sp>
      <p:sp>
        <p:nvSpPr>
          <p:cNvPr id="6" name="PlaceHolder 5"/>
          <p:cNvSpPr>
            <a:spLocks noGrp="1"/>
          </p:cNvSpPr>
          <p:nvPr>
            <p:ph type="dt" idx="1"/>
          </p:nvPr>
        </p:nvSpPr>
        <p:spPr/>
        <p:txBody>
          <a:bodyPr/>
          <a:p>
            <a:fld id="{A9C43A58-8415-4BC1-98D8-48B97443C065}"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3</a:t>
            </a:r>
            <a:endParaRPr b="0" lang="en-US" sz="4400" spc="-1" strike="noStrike">
              <a:solidFill>
                <a:srgbClr val="66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ore som tildeles de to sidene behøver ikke å balansere hverandre</a:t>
            </a:r>
            <a:endParaRPr b="0" lang="en-US" sz="2800" spc="-1" strike="noStrike">
              <a:solidFill>
                <a:srgbClr val="333399"/>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littet score er når NS får en score og ØV får en annen score</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inn i regnskapet begge to og det gjør at mange av scorene ØV og NS på spillet ikke balanserer hverandre</a:t>
            </a:r>
            <a:endParaRPr b="0" lang="en-US" sz="2400" spc="-1" strike="noStrike">
              <a:solidFill>
                <a:srgbClr val="000000"/>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ktet score er når en eller begge sider får en score basert på andel av flere kontrakter</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også inn i regnskapet og der påvirker de alle andre scor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B2AC304-A5DE-4FD2-A548-C4E337827811}" type="slidenum">
              <a:t>33</a:t>
            </a:fld>
          </a:p>
        </p:txBody>
      </p:sp>
      <p:sp>
        <p:nvSpPr>
          <p:cNvPr id="6" name="PlaceHolder 5"/>
          <p:cNvSpPr>
            <a:spLocks noGrp="1"/>
          </p:cNvSpPr>
          <p:nvPr>
            <p:ph type="dt" idx="1"/>
          </p:nvPr>
        </p:nvSpPr>
        <p:spPr/>
        <p:txBody>
          <a:bodyPr/>
          <a:p>
            <a:fld id="{598DF619-23CF-427D-B421-6AFDDFBEA2F8}"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4</a:t>
            </a:r>
            <a:endParaRPr b="0" lang="en-US" sz="4400" spc="-1" strike="noStrike">
              <a:solidFill>
                <a:srgbClr val="6633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el splittet scor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V ha, etter bruk av UI til å velge et ulovlig logisk alternativ, kommet i 4 spar i son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S har doblet kontrakten, men etter et svært dårlig utspill og revoke så har ØV fått 10 stikk</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d et normalt utspill og fortsatt godt spill så går ØV 4 b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DOM: ØV –1100     NS - 79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CF9B70A-F976-45E4-B343-DF582250010D}" type="slidenum">
              <a:t>34</a:t>
            </a:fld>
          </a:p>
        </p:txBody>
      </p:sp>
      <p:sp>
        <p:nvSpPr>
          <p:cNvPr id="6" name="PlaceHolder 5"/>
          <p:cNvSpPr>
            <a:spLocks noGrp="1"/>
          </p:cNvSpPr>
          <p:nvPr>
            <p:ph type="dt" idx="1"/>
          </p:nvPr>
        </p:nvSpPr>
        <p:spPr/>
        <p:txBody>
          <a:bodyPr/>
          <a:p>
            <a:fld id="{9D19E249-1CD3-4CB2-903E-BB62BA6CEDF7}"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5</a:t>
            </a:r>
            <a:endParaRPr b="0" lang="en-US" sz="4400" spc="-1" strike="noStrike">
              <a:solidFill>
                <a:srgbClr val="663300"/>
              </a:solidFill>
              <a:latin typeface="Times New Roman"/>
            </a:endParaRPr>
          </a:p>
        </p:txBody>
      </p:sp>
      <p:graphicFrame>
        <p:nvGraphicFramePr>
          <p:cNvPr id="159"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ksempel på vektet score: 10 bord: 3x170 ØV, 3x420 ØV, 3x590 Ø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siste bordet får 1/3 av det hver av scorene oppnår som poengtildel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170 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3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2   + 1/3x2  + 1/3x3   = 0,67 + 0,67 + 1    =  2,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420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10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9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10 + 1/3x9 + 1/3x8    =  3,33 +  3 + 2,67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90gir (4)17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42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59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3x16 + 1/3x16 + 1/3x15 = 5,33 + 5,33 + 5   =  15,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t justerte bordet få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3   + 1/3x9   + 1/3x15 = 1      +  3      +5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2206E9B0-884C-4028-9C26-36AD4128F905}" type="slidenum">
              <a:t>35</a:t>
            </a:fld>
          </a:p>
        </p:txBody>
      </p:sp>
      <p:sp>
        <p:nvSpPr>
          <p:cNvPr id="5" name="PlaceHolder 4"/>
          <p:cNvSpPr>
            <a:spLocks noGrp="1"/>
          </p:cNvSpPr>
          <p:nvPr>
            <p:ph type="dt" idx="1"/>
          </p:nvPr>
        </p:nvSpPr>
        <p:spPr/>
        <p:txBody>
          <a:bodyPr/>
          <a:p>
            <a:fld id="{945ED0BA-5F19-4D02-9F9F-920F91164181}"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6</a:t>
            </a:r>
            <a:endParaRPr b="0" lang="en-US" sz="4400" spc="-1" strike="noStrike">
              <a:solidFill>
                <a:srgbClr val="66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Splittet score og særlig vektet score 12C3 ser ut til å være in igjen. Dette fordi de gir bedre rettferdighet og enda bedre mulighet til å unngå 60-40 dømming</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littet og vektet score behandles manuelt i lagkamp.</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 parturnering er det bare Bull og Gulbrandsen som behandler splittet score </a:t>
            </a:r>
            <a:br>
              <a:rPr sz="2800"/>
            </a:br>
            <a:r>
              <a:rPr b="0" lang="nb-NO" sz="2800" spc="-1" strike="noStrike">
                <a:solidFill>
                  <a:srgbClr val="000000"/>
                </a:solidFill>
                <a:latin typeface="Times New Roman"/>
              </a:rPr>
              <a:t>- og ingen som behandler vektet sco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9E50166-5DC6-4C92-9F2F-4B3ABF5846F2}" type="slidenum">
              <a:t>36</a:t>
            </a:fld>
          </a:p>
        </p:txBody>
      </p:sp>
      <p:sp>
        <p:nvSpPr>
          <p:cNvPr id="6" name="PlaceHolder 5"/>
          <p:cNvSpPr>
            <a:spLocks noGrp="1"/>
          </p:cNvSpPr>
          <p:nvPr>
            <p:ph type="dt" idx="1"/>
          </p:nvPr>
        </p:nvSpPr>
        <p:spPr/>
        <p:txBody>
          <a:bodyPr/>
          <a:p>
            <a:fld id="{0B453E8D-E4B6-49A2-B3A5-626842ED41A6}"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Etikk generelt</a:t>
            </a:r>
            <a:endParaRPr b="0" lang="en-US" sz="4400" spc="-1" strike="noStrike">
              <a:solidFill>
                <a:srgbClr val="66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72 B1 JUSTERT SCORE </a:t>
            </a:r>
            <a:br>
              <a:rPr sz="2800"/>
            </a:br>
            <a:r>
              <a:rPr b="0" lang="en-US" sz="2800" spc="-1" strike="noStrike">
                <a:solidFill>
                  <a:srgbClr val="333399"/>
                </a:solidFill>
                <a:latin typeface="Times New Roman"/>
              </a:rPr>
              <a:t>er TL sitt ”redningsnett” når han ikke har en paragraf  for hånden</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918E3C7-9F7F-40AA-B39B-091426B88CFF}" type="slidenum">
              <a:t>37</a:t>
            </a:fld>
          </a:p>
        </p:txBody>
      </p:sp>
      <p:sp>
        <p:nvSpPr>
          <p:cNvPr id="6" name="PlaceHolder 5"/>
          <p:cNvSpPr>
            <a:spLocks noGrp="1"/>
          </p:cNvSpPr>
          <p:nvPr>
            <p:ph type="dt" idx="1"/>
          </p:nvPr>
        </p:nvSpPr>
        <p:spPr/>
        <p:txBody>
          <a:bodyPr/>
          <a:p>
            <a:fld id="{95A71990-74EC-448F-A978-45B3B3480CE4}"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 73 Kommunikassjon</a:t>
            </a:r>
            <a:endParaRPr b="0" lang="en-US" sz="4400" spc="-1" strike="noStrike">
              <a:solidFill>
                <a:srgbClr val="6633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Beskriver korrekt og ukorrekt kommunikasjon mellom makkere</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krivelser av handlinger som kan føre til justert score sen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 forsettlige forsøk på å villede motpar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E36B955-0697-42EC-902A-8493CAC57B8D}" type="slidenum">
              <a:t>38</a:t>
            </a:fld>
          </a:p>
        </p:txBody>
      </p:sp>
      <p:sp>
        <p:nvSpPr>
          <p:cNvPr id="6" name="PlaceHolder 5"/>
          <p:cNvSpPr>
            <a:spLocks noGrp="1"/>
          </p:cNvSpPr>
          <p:nvPr>
            <p:ph type="dt" idx="1"/>
          </p:nvPr>
        </p:nvSpPr>
        <p:spPr/>
        <p:txBody>
          <a:bodyPr/>
          <a:p>
            <a:fld id="{16BDD981-9570-4C1A-9021-1521BB0A4FA6}"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75 Makkeravtaler</a:t>
            </a:r>
            <a:endParaRPr b="0" lang="en-US" sz="4400" spc="-1" strike="noStrike">
              <a:solidFill>
                <a:srgbClr val="6633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L finner hjemmel for å vurdere om forklaringer er OK husk at  det er mulig å starte opp et meldingsforløp</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fullstendig eller feil forklaring f.eks §75 D2</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Åpningsutspillet er ikke snudd § 17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ker har ikke meldt  §21 B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D3A4DEF-3584-4025-A353-0769BBF6F9AE}" type="slidenum">
              <a:t>39</a:t>
            </a:fld>
          </a:p>
        </p:txBody>
      </p:sp>
      <p:sp>
        <p:nvSpPr>
          <p:cNvPr id="6" name="PlaceHolder 5"/>
          <p:cNvSpPr>
            <a:spLocks noGrp="1"/>
          </p:cNvSpPr>
          <p:nvPr>
            <p:ph type="dt" idx="1"/>
          </p:nvPr>
        </p:nvSpPr>
        <p:spPr/>
        <p:txBody>
          <a:bodyPr/>
          <a:p>
            <a:fld id="{2A081B9A-D081-4425-88FF-884A9FA7AE1F}"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3</a:t>
            </a:r>
            <a:endParaRPr b="0" lang="en-US" sz="4400" spc="-1" strike="noStrike">
              <a:solidFill>
                <a:srgbClr val="6633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et the player give his full story.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interruptions from the other pair, if necessary explaining once more that their turn comes lat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ranslate’ what is told in such a way that relevant additional information can be asked, so be an active listen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tells you that his opponent made an opening bid out of turn, you want to know if LHO made a call thereafter.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BD85F25-B567-4A09-A8FC-E5100525BFEA}" type="slidenum">
              <a:t>4</a:t>
            </a:fld>
          </a:p>
        </p:txBody>
      </p:sp>
      <p:sp>
        <p:nvSpPr>
          <p:cNvPr id="6" name="PlaceHolder 5"/>
          <p:cNvSpPr>
            <a:spLocks noGrp="1"/>
          </p:cNvSpPr>
          <p:nvPr>
            <p:ph type="dt" idx="1"/>
          </p:nvPr>
        </p:nvSpPr>
        <p:spPr/>
        <p:txBody>
          <a:bodyPr/>
          <a:p>
            <a:fld id="{E8892CD5-9B7F-477E-AAA2-E7B72409ABA1}"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4</a:t>
            </a:r>
            <a:endParaRPr b="0" lang="en-US" sz="4400" spc="-1" strike="noStrike">
              <a:solidFill>
                <a:srgbClr val="6633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if a player hesitated then try to find out for how long.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ask the opponents whether they agree with the facts as given. If necessary give a summary to emphasize the really important things.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does not agree with his pause for thought being 30 seconds, ‘help’ him by asking how long he thought the pause was, or by ‘ understanding’ that he needed some time to consider his call in this complicated or competitive auction.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ablishing the fact of the hesitation is more important than the precise length of it.</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022ED6A-28B9-410F-ACBA-0A60BCEFF576}" type="slidenum">
              <a:t>5</a:t>
            </a:fld>
          </a:p>
        </p:txBody>
      </p:sp>
      <p:sp>
        <p:nvSpPr>
          <p:cNvPr id="6" name="PlaceHolder 5"/>
          <p:cNvSpPr>
            <a:spLocks noGrp="1"/>
          </p:cNvSpPr>
          <p:nvPr>
            <p:ph type="dt" idx="1"/>
          </p:nvPr>
        </p:nvSpPr>
        <p:spPr/>
        <p:txBody>
          <a:bodyPr/>
          <a:p>
            <a:fld id="{9932126E-91E2-4B59-8E61-FE36517DCBA1}"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5</a:t>
            </a:r>
            <a:endParaRPr b="0" lang="en-US" sz="4400" spc="-1" strike="noStrike">
              <a:solidFill>
                <a:srgbClr val="66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t often helps to ask a player why he decided to make that call.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f it deviates from the agreements and the answer is that there was no other call available, then you found a leak in the system, and not a accidental deviation.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l facts being clear the TD is able to make the decision, always with the help of his law book.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A60D8B8-CD4E-4B31-871F-A2C52C31D2A4}" type="slidenum">
              <a:t>6</a:t>
            </a:fld>
          </a:p>
        </p:txBody>
      </p:sp>
      <p:sp>
        <p:nvSpPr>
          <p:cNvPr id="6" name="PlaceHolder 5"/>
          <p:cNvSpPr>
            <a:spLocks noGrp="1"/>
          </p:cNvSpPr>
          <p:nvPr>
            <p:ph type="dt" idx="1"/>
          </p:nvPr>
        </p:nvSpPr>
        <p:spPr/>
        <p:txBody>
          <a:bodyPr/>
          <a:p>
            <a:fld id="{D4622CC7-5DCA-49E5-B6F0-AAF7FE499A0A}"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6</a:t>
            </a:r>
            <a:endParaRPr b="0" lang="en-US" sz="4400" spc="-1" strike="noStrike">
              <a:solidFill>
                <a:srgbClr val="6633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dvice is to use the law book as much as possible, reading to the players what has to be done.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events mistakes, convinces the players of the correctness of the ruling and might even assure the TD in his job, not forgetting important details such as the possible application of L16, L26  o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nothing to be ashamed of when the TD needs to use the contents or index to find the right law to be used, though it is preferable to know where to go at on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3EB75EC-CCB6-4911-9710-2E85C6EBD428}" type="slidenum">
              <a:t>7</a:t>
            </a:fld>
          </a:p>
        </p:txBody>
      </p:sp>
      <p:sp>
        <p:nvSpPr>
          <p:cNvPr id="6" name="PlaceHolder 5"/>
          <p:cNvSpPr>
            <a:spLocks noGrp="1"/>
          </p:cNvSpPr>
          <p:nvPr>
            <p:ph type="dt" idx="1"/>
          </p:nvPr>
        </p:nvSpPr>
        <p:spPr/>
        <p:txBody>
          <a:bodyPr/>
          <a:p>
            <a:fld id="{28DC7220-25BA-419E-ACD9-EE74B4D004A9}"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7</a:t>
            </a:r>
            <a:endParaRPr b="0" lang="en-US" sz="4400" spc="-1" strike="noStrike">
              <a:solidFill>
                <a:srgbClr val="66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ly in the most ‘regular irregularities’ it is acceptable to rule by hear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a lead out of turn it is even ‘mandatory’, to be able to finish the ruling in time.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D ‘translates’ the applicable laws to the specific situation, replacing the general descriptions for the factual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745E959-D855-443E-84C0-D6977D96975C}" type="slidenum">
              <a:t>8</a:t>
            </a:fld>
          </a:p>
        </p:txBody>
      </p:sp>
      <p:sp>
        <p:nvSpPr>
          <p:cNvPr id="6" name="PlaceHolder 5"/>
          <p:cNvSpPr>
            <a:spLocks noGrp="1"/>
          </p:cNvSpPr>
          <p:nvPr>
            <p:ph type="dt" idx="1"/>
          </p:nvPr>
        </p:nvSpPr>
        <p:spPr/>
        <p:txBody>
          <a:bodyPr/>
          <a:p>
            <a:fld id="{E389CD27-AF57-4E49-8670-10016A0B0C68}"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s rolle</a:t>
            </a:r>
            <a:endParaRPr b="0" lang="en-US" sz="4400" spc="-1" strike="noStrike">
              <a:solidFill>
                <a:srgbClr val="6633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urneringslederen har en ”fullstendig” roll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e inn fakta (etterforsk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ne og bruke lovgrunnlag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dele den straff eller erstatning som er fastsatt i lovene for bestemte lovbrudd</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rdere om et lovbrudd har ført til skade. Fastsette et justert resulta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berede saken for appellutvalge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AEA2794-1A78-4403-B215-96D2A328BE98}" type="slidenum">
              <a:t>9</a:t>
            </a:fld>
          </a:p>
        </p:txBody>
      </p:sp>
      <p:sp>
        <p:nvSpPr>
          <p:cNvPr id="6" name="PlaceHolder 5"/>
          <p:cNvSpPr>
            <a:spLocks noGrp="1"/>
          </p:cNvSpPr>
          <p:nvPr>
            <p:ph type="dt" idx="1"/>
          </p:nvPr>
        </p:nvSpPr>
        <p:spPr/>
        <p:txBody>
          <a:bodyPr/>
          <a:p>
            <a:fld id="{5F1C227C-0E85-4FBA-ABA3-61BF299AB771}"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12:05:26Z</dcterms:created>
  <dc:creator>Per Nordland</dc:creator>
  <dc:description/>
  <dc:language>en-US</dc:language>
  <cp:lastModifiedBy>Per Nordland</cp:lastModifiedBy>
  <dcterms:modified xsi:type="dcterms:W3CDTF">2002-04-17T23:15:30Z</dcterms:modified>
  <cp:revision>6</cp:revision>
  <dc:subject/>
  <dc:title>Turneringslederen i aksjon</dc:title>
</cp:coreProperties>
</file>